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D66-B32B-4902-88BA-281817FE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149-CA0C-410B-B1CA-5212BF5C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B7C-27B4-4083-93FE-667FAC32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155-5A47-47CC-9356-DD3DFB10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6F2-D631-4289-AB98-3CBA8DBB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23C-AE51-4263-BAA1-DD6261A9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478-3452-4F64-9C75-7482169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763-237F-45B8-A7F2-3F7A5CAD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1AE-D205-41D8-B2B1-02CC23E3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CFC-D5A3-41BA-8B00-C8947E77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FA0-B22D-41ED-9922-6F6E526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09A-F148-4A28-A397-E637DBA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F92-8ADD-43CC-865E-56534D7D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erlin Sans FB Demi"/>
              </a:rPr>
              <a:t>Ich schlage vor dass ich nach Österreich fah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erlin Sans FB Demi"/>
              </a:rPr>
              <a:t>Anneliese Tim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28600" y="1982880"/>
            <a:ext cx="2604960" cy="155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6324480" y="3832200"/>
            <a:ext cx="2606760" cy="230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4295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1676520" y="6173640"/>
            <a:ext cx="4971960" cy="42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2"/>
          <a:srcRect l="0" t="0" r="0" b="7402"/>
          <a:stretch/>
        </p:blipFill>
        <p:spPr>
          <a:xfrm>
            <a:off x="3048120" y="304920"/>
            <a:ext cx="5257800" cy="256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3"/>
          <a:srcRect l="0" t="0" r="2816" b="7724"/>
          <a:stretch/>
        </p:blipFill>
        <p:spPr>
          <a:xfrm>
            <a:off x="3048120" y="3070080"/>
            <a:ext cx="5257800" cy="2689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80880" y="6094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erlin Sans FB"/>
              </a:rPr>
              <a:t>Ich farhe nach Ti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erlin Sans FB"/>
              </a:rPr>
              <a:t>Ich farhe nach Innsbruck von Chicago mit dem Flugze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685800" y="1752480"/>
            <a:ext cx="464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bleibe in eine Pension nach Innsbruck. Diese Pension hat eine Liegeweise und einen Fitnessraum. Es hat auch eine Garten hinter die P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573880" y="952560"/>
            <a:ext cx="3333600" cy="2857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609480" y="571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Berlin Sans FB Demi"/>
              </a:rPr>
              <a:t>Hotel-Pension Sonnen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14880" y="6170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Es kostet $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706320" y="4219560"/>
            <a:ext cx="7732800" cy="1600200"/>
            <a:chOff x="706320" y="4219560"/>
            <a:chExt cx="7732800" cy="1600200"/>
          </a:xfrm>
        </p:grpSpPr>
        <p:pic>
          <p:nvPicPr>
            <p:cNvPr id="55" name="Picture 9" descr=""/>
            <p:cNvPicPr/>
            <p:nvPr/>
          </p:nvPicPr>
          <p:blipFill>
            <a:blip r:embed="rId2"/>
            <a:srcRect l="11763" t="0" r="0" b="0"/>
            <a:stretch/>
          </p:blipFill>
          <p:spPr>
            <a:xfrm>
              <a:off x="706320" y="4219560"/>
              <a:ext cx="77328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3"/>
            <p:cNvSpPr/>
            <p:nvPr/>
          </p:nvSpPr>
          <p:spPr>
            <a:xfrm>
              <a:off x="7183440" y="5362560"/>
              <a:ext cx="1066680" cy="304560"/>
            </a:xfrm>
            <a:prstGeom prst="rect">
              <a:avLst/>
            </a:prstGeom>
            <a:noFill/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52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zur Reisenrundgemälde bei dem Flu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in die Kirche gegenüber dem G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zum Alpen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im Museum für die Kun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sehe das Ambros Schl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433760" y="187200"/>
            <a:ext cx="4405320" cy="316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494240" y="3429000"/>
            <a:ext cx="4268880" cy="3171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80880" y="558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Nach Innsbru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erlin Sans FB Demi"/>
              </a:rPr>
              <a:t>Dann farhe ich nach St. Johann mit der Bah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3126" t="59518" r="44240" b="34016"/>
          <a:stretch/>
        </p:blipFill>
        <p:spPr>
          <a:xfrm>
            <a:off x="326880" y="2743200"/>
            <a:ext cx="8313840" cy="76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3086280" y="4876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Es kostet etwa $253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rcRect l="3359" t="62505" r="33677" b="30600"/>
          <a:stretch/>
        </p:blipFill>
        <p:spPr>
          <a:xfrm>
            <a:off x="326880" y="3600360"/>
            <a:ext cx="85759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reiseauskunft.bahn.de/bin/query2.exe/dn?ld=9647&amp;seqnr=25&amp;ident=i6.01450947.1326001418&amp;rt=1&amp;performGis=1&amp;REQ0JourneyStopsM=0&amp;REQMap24Output=IMAGEFILE&amp;REQMap24Task=RECALL&amp;"/>
          <p:cNvPicPr/>
          <p:nvPr/>
        </p:nvPicPr>
        <p:blipFill>
          <a:blip r:embed="rId1"/>
          <a:stretch/>
        </p:blipFill>
        <p:spPr>
          <a:xfrm>
            <a:off x="663480" y="380880"/>
            <a:ext cx="5878440" cy="587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334040" y="3581280"/>
            <a:ext cx="3981240" cy="3124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181480" y="5143680"/>
            <a:ext cx="685800" cy="495000"/>
          </a:xfrm>
          <a:prstGeom prst="rect">
            <a:avLst/>
          </a:prstGeom>
          <a:noFill/>
          <a:ln w="5724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1576" t="0" r="0" b="0"/>
          <a:stretch/>
        </p:blipFill>
        <p:spPr>
          <a:xfrm>
            <a:off x="343080" y="4267080"/>
            <a:ext cx="8458200" cy="1765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995400" y="1905120"/>
            <a:ext cx="39625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Dann nach St. Johann, bleibe ich in einem Hotel. Das hotel hat eine Sauna. Ich esse ins Restaurant in deisem Hotel und es gibt einen Bibliothek über der Resta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257800" y="1066680"/>
            <a:ext cx="333360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995400" y="88272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Berlin Sans FB Demi"/>
              </a:rPr>
              <a:t>Hotel Fis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3733920" y="62485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Es kostet $2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04920" y="14479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wandre auf der Al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sehe der Brunnen neben den Marktpla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fahre den Bergbahnen durch die B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fahre 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einkaufen in kleinen Lä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373280" cy="327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380880" y="609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Nach St. Johan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erlin Sans FB Demi"/>
              </a:rPr>
              <a:t>Es kost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2361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erlin Sans FB Demi"/>
              </a:rPr>
              <a:t>$1012.30 + $356 + $253.86 + $298 + $10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819520" y="35812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Berlin Sans FB Demi"/>
              </a:rPr>
              <a:t>$2920.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1409760" y="1916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erlin Sans FB"/>
              </a:rPr>
              <a:t>Fluzeug Karte + Pension + 2 Bahn Karten + Hotel + Extr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1:37Z</dcterms:created>
  <dc:creator>CUSD220</dc:creator>
  <dc:description/>
  <dc:language>en-US</dc:language>
  <cp:lastModifiedBy>Claire Timlin</cp:lastModifiedBy>
  <dcterms:modified xsi:type="dcterms:W3CDTF">2012-01-10T03:51:18Z</dcterms:modified>
  <cp:revision>38</cp:revision>
  <dc:subject/>
  <dc:title>Slide 1</dc:title>
</cp:coreProperties>
</file>